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49F0-B3BA-4DD2-AA0B-CACBD949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8EF-9DE6-4038-9C85-8F3F2EF9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057-DC2F-4AD6-B60D-F982462E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AB25-0951-44FE-BB28-95BDF952E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06AA-347E-444E-BB5B-CACD39FE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F13B-1A6A-4CF9-BDDC-DCC20937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AF2A-A3A3-4F3F-B6E3-E5D7BD10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79D0-E7F5-45CF-9188-1AD893E5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B0C1-962B-4EAE-A062-F41ADFE7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4068-920E-40F1-8E77-D776CAB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182E-E35D-4C10-9ED8-DE16A24B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144-285E-43E1-95C8-F6E73F33B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57BB-1766-4F5E-9A38-ACB0520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F4AF-631D-478A-A6DD-C7F9CB4B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92AE-CDD0-429E-8583-3E9984CE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29F5-8CF5-48CF-B1A4-FC74A939D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F1CC-CD41-43E4-B6FA-50B5EA92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BB3-9DCE-41E8-BD14-6B603B25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45EB-83F6-4CCC-8CEF-E4EC4F41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303B-F331-4F5A-85A2-22C1F97C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20A1-CFC5-43AD-8481-D69EC662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7052-61BE-4126-A530-497862C2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0D4-8B01-4A11-BCD6-E48C172D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734-237C-40B1-B059-FEBC28B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27EC-F867-4A3F-94B6-32C8B431AD1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9A76-353A-4767-BFB6-A16A9178169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IMG_0052"/>
          <p:cNvPicPr/>
          <p:nvPr/>
        </p:nvPicPr>
        <p:blipFill>
          <a:blip r:embed="rId1"/>
          <a:stretch/>
        </p:blipFill>
        <p:spPr>
          <a:xfrm>
            <a:off x="250920" y="1628640"/>
            <a:ext cx="3938400" cy="3692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2" name="Picture 3" descr="Фото Аркалык 037"/>
          <p:cNvPicPr/>
          <p:nvPr/>
        </p:nvPicPr>
        <p:blipFill>
          <a:blip r:embed="rId2"/>
          <a:stretch/>
        </p:blipFill>
        <p:spPr>
          <a:xfrm>
            <a:off x="4427640" y="1647720"/>
            <a:ext cx="4176720" cy="365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Rectangle 4"/>
          <p:cNvSpPr/>
          <p:nvPr/>
        </p:nvSpPr>
        <p:spPr>
          <a:xfrm>
            <a:off x="2917800" y="5419800"/>
            <a:ext cx="330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ыныбы: 6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өткізген: Жұман А.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наты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ақыты: 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22.02.2008</a:t>
            </a:r>
            <a:r>
              <a:rPr b="1" lang="kk-K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619280" y="36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6"/>
          <p:cNvSpPr txBox="1"/>
          <p:nvPr/>
        </p:nvSpPr>
        <p:spPr>
          <a:xfrm>
            <a:off x="250920" y="2852640"/>
            <a:ext cx="669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Ашық сабақ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314280" y="189000"/>
            <a:ext cx="851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Arial"/>
              </a:rPr>
              <a:t>Тақырыбы: Кенді пайдалы қазбалар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08000" y="474480"/>
            <a:ext cx="831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а) кенді пайдалы қазбалар жайлы теориялық түсінік бер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ә) оқушылардың танымдық  белсенділігін арттыру, ойын, тілін дамы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Times New Roman"/>
              </a:rPr>
              <a:t>б) есте сақтаушылыққа, қауіпсіздікке негіздей отырып кәсіби тәрбие бе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3"/>
          <p:cNvSpPr txBox="1"/>
          <p:nvPr/>
        </p:nvSpPr>
        <p:spPr>
          <a:xfrm>
            <a:off x="665280" y="115920"/>
            <a:ext cx="655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Сабақтың мақсаты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84360" y="278064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арамандық әдіс, картамен жұмыс, кесте,  сызбалар толтыру, «топтастыру» стратегия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684360" y="1557360"/>
            <a:ext cx="3816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түр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61280" y="163512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ралас саб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611280" y="2349360"/>
            <a:ext cx="4176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әдісі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3" name="WordArt 8"/>
          <p:cNvSpPr txBox="1"/>
          <p:nvPr/>
        </p:nvSpPr>
        <p:spPr>
          <a:xfrm>
            <a:off x="682560" y="3532320"/>
            <a:ext cx="5543640" cy="40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Сабақтың көрнекілігі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50920" y="40114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биғи және тұрмыстық заттар,  үлгілер, магнит, тірек-сызб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үлестірмелер, кесте, к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10"/>
          <p:cNvSpPr txBox="1"/>
          <p:nvPr/>
        </p:nvSpPr>
        <p:spPr>
          <a:xfrm>
            <a:off x="755640" y="4898880"/>
            <a:ext cx="11667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ТСО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860480" y="48690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елевизор, бейне тас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826920" y="60588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ана тілі, қазақ тілі, география,  математика, орыс тілі, еңб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3"/>
          <p:cNvSpPr txBox="1"/>
          <p:nvPr/>
        </p:nvSpPr>
        <p:spPr>
          <a:xfrm>
            <a:off x="2195640" y="5589720"/>
            <a:ext cx="47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Times New Roman"/>
              </a:rPr>
              <a:t>Пән аралық байланыс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3708360" y="1125000"/>
            <a:ext cx="45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дың назарын  сабаққа аудар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ндеу, журнал толты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WordArt 3"/>
          <p:cNvSpPr txBox="1"/>
          <p:nvPr/>
        </p:nvSpPr>
        <p:spPr>
          <a:xfrm>
            <a:off x="1260360" y="333360"/>
            <a:ext cx="5832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Сабақтың барысы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1" name="WordArt 4"/>
          <p:cNvSpPr txBox="1"/>
          <p:nvPr/>
        </p:nvSpPr>
        <p:spPr>
          <a:xfrm>
            <a:off x="324000" y="1125360"/>
            <a:ext cx="35272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. Ұйымдастыру кезеңі: 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193840" y="3142440"/>
            <a:ext cx="61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ынып қалай таза м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Сүртілді ме тақтамы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Ден сау болсын десеңіз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азалықты сақтаңы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Оқушылар түгел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зекші оны біле м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Түгел болсақ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Бәрін маған қараң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«Оқысаңыз балал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Шамнан шырақ жағыл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генің алдынна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Іздемей-ақ табылар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WordArt 6"/>
          <p:cNvSpPr txBox="1"/>
          <p:nvPr/>
        </p:nvSpPr>
        <p:spPr>
          <a:xfrm>
            <a:off x="322200" y="2492280"/>
            <a:ext cx="532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ffb8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. Психологиялық дайындық:</a:t>
            </a:r>
            <a:endParaRPr b="1" lang="en-US" sz="1800" spc="1" strike="noStrike">
              <a:ln w="3240">
                <a:solidFill>
                  <a:srgbClr val="ffb8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264960" y="1413000"/>
            <a:ext cx="646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Times New Roman"/>
              </a:rPr>
              <a:t>Жауаптарын магниттік тақтадағы картаға жапсы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Алюминий қай қалада шығады? Оны белгісі қанда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ұнай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Мыс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Темір қай қалада шығады? Оның белгіс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Біздің қаламызда қандай кен орны бар?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Ол мекеме қалай атала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3"/>
          <p:cNvSpPr txBox="1"/>
          <p:nvPr/>
        </p:nvSpPr>
        <p:spPr>
          <a:xfrm>
            <a:off x="395280" y="260280"/>
            <a:ext cx="5113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b800"/>
                </a:solidFill>
                <a:latin typeface="Times New Roman"/>
              </a:rPr>
              <a:t>ІІІ. Үй тапсырмасын сұр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b800"/>
              </a:solidFill>
              <a:latin typeface="Times New Roman"/>
              <a:ea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289080" y="692280"/>
            <a:ext cx="867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3-1. Қазақстанның пайдалы қазбалары  тақырыбы бойынша оқушыларға сұрақ қ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324000" y="3637800"/>
            <a:ext cx="39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2. «Топтастыру» стратегияс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179280" y="401220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айдалы қазбалар деген сөздің маңайына пайдалы қазбаларғ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жатады соны топтастыр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1835280" y="4797360"/>
            <a:ext cx="6875280" cy="1871640"/>
            <a:chOff x="1835280" y="4797360"/>
            <a:chExt cx="6875280" cy="1871640"/>
          </a:xfrm>
        </p:grpSpPr>
        <p:sp>
          <p:nvSpPr>
            <p:cNvPr id="180" name="Rectangle 8"/>
            <p:cNvSpPr/>
            <p:nvPr/>
          </p:nvSpPr>
          <p:spPr>
            <a:xfrm>
              <a:off x="3976920" y="5577120"/>
              <a:ext cx="2253960" cy="445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Пайдалы қазбал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5441400" y="4797360"/>
              <a:ext cx="112680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ы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0"/>
            <p:cNvSpPr/>
            <p:nvPr/>
          </p:nvSpPr>
          <p:spPr>
            <a:xfrm>
              <a:off x="18352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юми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947600" y="506484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лты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2"/>
            <p:cNvSpPr/>
            <p:nvPr/>
          </p:nvSpPr>
          <p:spPr>
            <a:xfrm>
              <a:off x="7132680" y="55994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абиғи г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3638880" y="479736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кө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4"/>
            <p:cNvSpPr/>
            <p:nvPr/>
          </p:nvSpPr>
          <p:spPr>
            <a:xfrm>
              <a:off x="6231240" y="613440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мұна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511720" y="6134400"/>
              <a:ext cx="157752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темі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16"/>
            <p:cNvSpPr/>
            <p:nvPr/>
          </p:nvSpPr>
          <p:spPr>
            <a:xfrm>
              <a:off x="6906600" y="5064840"/>
              <a:ext cx="1577880" cy="401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асбе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4314240" y="6268320"/>
              <a:ext cx="1578960" cy="400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703dff"/>
                  </a:solidFill>
                  <a:latin typeface="Arial"/>
                  <a:ea typeface="Times New Roman"/>
                </a:rPr>
                <a:t>құ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8"/>
            <p:cNvSpPr/>
            <p:nvPr/>
          </p:nvSpPr>
          <p:spPr>
            <a:xfrm>
              <a:off x="5104080" y="6000840"/>
              <a:ext cx="0" cy="26712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9"/>
            <p:cNvSpPr/>
            <p:nvPr/>
          </p:nvSpPr>
          <p:spPr>
            <a:xfrm flipH="1">
              <a:off x="4089240" y="6000840"/>
              <a:ext cx="101448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0"/>
            <p:cNvSpPr/>
            <p:nvPr/>
          </p:nvSpPr>
          <p:spPr>
            <a:xfrm>
              <a:off x="5104080" y="6000840"/>
              <a:ext cx="1126800" cy="13320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1"/>
            <p:cNvSpPr/>
            <p:nvPr/>
          </p:nvSpPr>
          <p:spPr>
            <a:xfrm flipV="1">
              <a:off x="5216400" y="5198400"/>
              <a:ext cx="5626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2"/>
            <p:cNvSpPr/>
            <p:nvPr/>
          </p:nvSpPr>
          <p:spPr>
            <a:xfrm flipH="1" flipV="1">
              <a:off x="4765680" y="5198400"/>
              <a:ext cx="45036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3"/>
            <p:cNvSpPr/>
            <p:nvPr/>
          </p:nvSpPr>
          <p:spPr>
            <a:xfrm flipH="1" flipV="1">
              <a:off x="3525120" y="5198400"/>
              <a:ext cx="16912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4"/>
            <p:cNvSpPr/>
            <p:nvPr/>
          </p:nvSpPr>
          <p:spPr>
            <a:xfrm flipV="1">
              <a:off x="5216400" y="5198400"/>
              <a:ext cx="1577880" cy="40068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5"/>
            <p:cNvSpPr/>
            <p:nvPr/>
          </p:nvSpPr>
          <p:spPr>
            <a:xfrm>
              <a:off x="6231240" y="5733720"/>
              <a:ext cx="90108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6"/>
            <p:cNvSpPr/>
            <p:nvPr/>
          </p:nvSpPr>
          <p:spPr>
            <a:xfrm flipH="1">
              <a:off x="3413160" y="5733720"/>
              <a:ext cx="563760" cy="0"/>
            </a:xfrm>
            <a:prstGeom prst="line">
              <a:avLst/>
            </a:prstGeom>
            <a:ln w="1908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1143000" y="119628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йне таспадан кен орындарындарындағы жұмысты тамашалай отырып, кен, кеншілер, кәсіпшілік, тұрғысында әңгім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2268360" y="2133000"/>
            <a:ext cx="532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лар жайлы тірек сызба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өрсете отырып сабақты түсінді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332000" y="189000"/>
            <a:ext cx="619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b800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IV. Жаңа сабақ</a:t>
            </a:r>
            <a:endParaRPr b="1" lang="en-US" sz="1800" spc="1" strike="noStrike">
              <a:ln w="9360">
                <a:solidFill>
                  <a:srgbClr val="ffb800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250920" y="87156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Кіріспе бөлі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280080" y="20606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Негізгі бөлі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27520" y="3087720"/>
            <a:ext cx="57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ірек сызбаны дәптерге жаз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ейбір оқушылар жапсыру жұмысын жасай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979640" y="3860640"/>
            <a:ext cx="6768720" cy="2736720"/>
            <a:chOff x="1979640" y="3860640"/>
            <a:chExt cx="6768720" cy="2736720"/>
          </a:xfrm>
        </p:grpSpPr>
        <p:sp>
          <p:nvSpPr>
            <p:cNvPr id="206" name="Rectangle 9"/>
            <p:cNvSpPr/>
            <p:nvPr/>
          </p:nvSpPr>
          <p:spPr>
            <a:xfrm>
              <a:off x="3362400" y="3860640"/>
              <a:ext cx="4560480" cy="390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КЕНДІ ПАЙДАЛЫ ҚАЗБАЛА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0"/>
            <p:cNvSpPr/>
            <p:nvPr/>
          </p:nvSpPr>
          <p:spPr>
            <a:xfrm>
              <a:off x="1979640" y="4642560"/>
              <a:ext cx="317808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Қара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1"/>
            <p:cNvSpPr/>
            <p:nvPr/>
          </p:nvSpPr>
          <p:spPr>
            <a:xfrm>
              <a:off x="5570640" y="4642560"/>
              <a:ext cx="3177720" cy="586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Түсті металл кендері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"/>
            <p:cNvSpPr/>
            <p:nvPr/>
          </p:nvSpPr>
          <p:spPr>
            <a:xfrm>
              <a:off x="2309400" y="5619960"/>
              <a:ext cx="2476440" cy="781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Болат, шойын, темір, құрыш т.б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"/>
            <p:cNvSpPr/>
            <p:nvPr/>
          </p:nvSpPr>
          <p:spPr>
            <a:xfrm>
              <a:off x="5591160" y="5619960"/>
              <a:ext cx="2661840" cy="977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Алтын, күміс, алюминий, мыс, қорғасын т.б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 flipH="1">
              <a:off x="4786200" y="4251600"/>
              <a:ext cx="68616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487840" y="4251600"/>
              <a:ext cx="618840" cy="39060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6"/>
            <p:cNvSpPr/>
            <p:nvPr/>
          </p:nvSpPr>
          <p:spPr>
            <a:xfrm>
              <a:off x="363060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7"/>
            <p:cNvSpPr/>
            <p:nvPr/>
          </p:nvSpPr>
          <p:spPr>
            <a:xfrm>
              <a:off x="6932520" y="5229000"/>
              <a:ext cx="0" cy="39096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345960" y="404640"/>
            <a:ext cx="76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Мақалдағы мамандық иелерінің қимылын көрс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бердің қолы ортақ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ағаш шебер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Өнерлінің қолы алт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тігіншіні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Шешен адам «сөз» соғ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Ұста адам «төс» соғар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ұстаның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Не ексен, соны орасын.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(егінші қимы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3059280" y="44280"/>
            <a:ext cx="17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ff"/>
                </a:solidFill>
                <a:latin typeface="Times New Roman"/>
              </a:rPr>
              <a:t>Сергіту сәті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79280" y="328500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Үстел үстіне болат, шойын, алюминий, қорғасын, қалайы, күміс, т.б. металлдардан жасалған бұйымдар қойылад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Оқушылар олардың әрқайсысына магнит жақындаты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байқайды. Кейбіреулері магнитке тартылады, кейбіреу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ff"/>
                </a:solidFill>
                <a:latin typeface="Times New Roman"/>
              </a:rPr>
              <a:t>тартылмайды. Оқушылар мынадай қорытынды жасайды: болат пен шойыннан жасалған бұйымдар магнитке тартылады, яғни олар қара металлдар, ал алюминий, қалайы, қорғасын, күміс, алтын т.б. магнитке тартылмайды, яғни олар түсті металлд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95280" y="2852640"/>
            <a:ext cx="75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ff"/>
                </a:solidFill>
                <a:uFillTx/>
                <a:latin typeface="Times New Roman"/>
              </a:rPr>
              <a:t>Сарамандық жұмыс жасау  арқылы жаңа сабақты бекі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WordArt 6"/>
          <p:cNvSpPr txBox="1"/>
          <p:nvPr/>
        </p:nvSpPr>
        <p:spPr>
          <a:xfrm>
            <a:off x="468360" y="2492280"/>
            <a:ext cx="403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66"/>
                </a:solidFill>
                <a:latin typeface="Times New Roman"/>
              </a:rPr>
              <a:t>V. Сарамандық жұмы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66"/>
              </a:solidFill>
              <a:latin typeface="Times New Roman"/>
              <a:ea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395280" y="836280"/>
            <a:ext cx="804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ұрақ-жауап, кен деп нені айтады? Қандай түрлерін білесіндер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Кенді пайдалы қазба дегніміз не? «Тірек сызба» бойынша сабақты қорытынды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539640" y="333360"/>
            <a:ext cx="3961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. Қорытынды бөлі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2" name="WordArt 4"/>
          <p:cNvSpPr txBox="1"/>
          <p:nvPr/>
        </p:nvSpPr>
        <p:spPr>
          <a:xfrm>
            <a:off x="539640" y="2203560"/>
            <a:ext cx="3745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VІІ. Үйге тапсы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3" name="WordArt 5"/>
          <p:cNvSpPr txBox="1"/>
          <p:nvPr/>
        </p:nvSpPr>
        <p:spPr>
          <a:xfrm>
            <a:off x="2987640" y="6381720"/>
            <a:ext cx="19731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Times New Roman"/>
              </a:rPr>
              <a:t>Бағала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Times New Roman"/>
              <a:ea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609840" y="263700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 u="sng">
                <a:solidFill>
                  <a:srgbClr val="000000"/>
                </a:solidFill>
                <a:uFillTx/>
                <a:latin typeface="Arial"/>
              </a:rPr>
              <a:t>Карточкалар үлестіріп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00000" y="3097080"/>
          <a:ext cx="6840720" cy="2925720"/>
        </p:xfrm>
        <a:graphic>
          <a:graphicData uri="http://schemas.openxmlformats.org/drawingml/2006/table">
            <a:tbl>
              <a:tblPr/>
              <a:tblGrid>
                <a:gridCol w="2281320"/>
                <a:gridCol w="2278080"/>
                <a:gridCol w="2281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ді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енге жатпайтын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Жанғыш пайдалы қазбал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2T06:35:08Z</dcterms:created>
  <dc:creator>User</dc:creator>
  <dc:description/>
  <dc:language>en-US</dc:language>
  <cp:lastModifiedBy>Nurken</cp:lastModifiedBy>
  <dcterms:modified xsi:type="dcterms:W3CDTF">2012-02-26T06:07:4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080000000000010250500207f7000400038000</vt:lpwstr>
  </property>
</Properties>
</file>